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7A2-372F-4871-93B7-CF478AE5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3BA-A4AE-4A6D-A90E-2CB4F5C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2B6-04B3-413A-A9E1-1DA1A749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D20-04BC-45EF-BF79-1B8A7D22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5A5-D069-4665-A049-27C0EF4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FCF-6EAD-4483-B268-D4418704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495-296F-49C5-8A49-685DCF3E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F70-57AB-4504-BE61-B0F86E4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D02-AAEF-4F7D-93DE-B9FDA6A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5F1-60E3-40F8-91B1-5FE8AEE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0E1-FD32-47A4-83FA-8BE3C90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03A-FEE8-4716-9D29-A75D6F0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A9B5-200F-4A52-86CD-EF8D44556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779400"/>
            <a:ext cx="216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Arial"/>
              </a:rPr>
              <a:t>dik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360" y="386064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Arial"/>
              </a:rPr>
              <a:t>v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2000" y="465300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cc00"/>
                </a:solidFill>
                <a:latin typeface="Arial"/>
              </a:rPr>
              <a:t>lyri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989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ff"/>
                </a:solidFill>
                <a:latin typeface="Arial"/>
              </a:rPr>
              <a:t>poes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lit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76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 summ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ton sard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par i ha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är solen sk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 summ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av dem ny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änge och of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är månen ly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341360"/>
            <a:ext cx="36007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umma summ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ex av dem si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kta mot str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r stjärnorna glim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im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mmelisu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Lennart Hell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1341000"/>
            <a:ext cx="5762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schysst kam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l kamrat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sk hemlig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 kryddmått brå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sk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l blandade bra s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ör så hä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da ihop kamratskapet med blandade bra s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pa ordentl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ör försiktigt ner hum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ll ut allt i en kompisform smord med brå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ll i ugnen i 3 min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ut den och strö på hemlighe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ra Lindblad, klass 6B, H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erätt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3025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n älva köpte sig en f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i stadens saluh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on lät den simma i en skå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av klaraste krist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n timme satt hon tyst och så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å fjällens silverblänk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sen släppte hon den varligt 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i bäckens vattenstä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n älva gick och handl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on köpte sig en m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som kunde gå små äre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och städa hennes h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När musen knogat hela d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ed stök och tvätt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fick den en puss på ör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till tack – så blev den f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Rose Fyleman/Karin Carl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ri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32000" y="1557360"/>
            <a:ext cx="3672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yponet s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är h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g är mycket tröt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kade det lilla nyp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en av fr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 utan lö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 prata 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ila Peterson, 8 å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ri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0920" y="1557360"/>
            <a:ext cx="49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lötsligt möter vandraren här den gam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jätteeken, lik en förstenad älg 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milsvid krona framför septemberhav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vartgröna fäst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Nordlig storm. Det är i den tid när rönnbär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klasar mognar. Vaken i mörkret hör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tjärnbilderna stampa i sina spil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högt över trä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1600" spc="-1" strike="noStrike">
                <a:solidFill>
                  <a:srgbClr val="000000"/>
                </a:solidFill>
                <a:latin typeface="Arial"/>
              </a:rPr>
              <a:t>Tomas Tranströmer</a:t>
            </a:r>
            <a:r>
              <a:rPr b="0" i="1" lang="sv-SE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kter om rymde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skrivna av andraklassare i Skå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3456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Rymden är svart och oänd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 rymden fi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vårt lilla lilla sol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där 8 små planeter snur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 stora stora univer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91840" y="4291920"/>
            <a:ext cx="39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8080"/>
                </a:solidFill>
                <a:latin typeface="Bookman Old Style"/>
              </a:rPr>
              <a:t>Stjärnor är kristallerna i rym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8080"/>
                </a:solidFill>
                <a:latin typeface="Bookman Old Style"/>
              </a:rPr>
              <a:t>Za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640" y="2637000"/>
            <a:ext cx="396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ymds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ymden skiner sta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 alla stjärnor, solar och a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ymden är så sva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n ändå lyser stjärnorna upp a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i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3800" y="1773360"/>
            <a:ext cx="438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Den svarta natthimlens tid är ko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Jag tittar upp mot sk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Jag ser alla stjärnor l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på natthimlen.     </a:t>
            </a:r>
            <a:br>
              <a:rPr sz="1800"/>
            </a:br>
            <a:r>
              <a:rPr b="1" i="1" lang="sv-SE" sz="1800" spc="-1" strike="noStrike">
                <a:solidFill>
                  <a:srgbClr val="ff9900"/>
                </a:solidFill>
                <a:latin typeface="Arial"/>
              </a:rPr>
              <a:t>Lu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720" y="4724280"/>
            <a:ext cx="340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I rymden finns det stjärnor 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som liknar glänsande pärlor. 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Det är spännande att titta upp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i  rymden och se tecken 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tillexempel karlavagnarna.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Det ser overkligt ut. </a:t>
            </a:r>
            <a:br>
              <a:rPr sz="1800"/>
            </a:br>
            <a:r>
              <a:rPr b="1" i="1" lang="sv-SE" sz="1800" spc="-1" strike="noStrike">
                <a:solidFill>
                  <a:srgbClr val="cc0000"/>
                </a:solidFill>
                <a:latin typeface="Arial"/>
              </a:rPr>
              <a:t>                            Mirvat</a:t>
            </a:r>
            <a:r>
              <a:rPr b="0" lang="sv-SE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640" y="1484640"/>
            <a:ext cx="27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Rymden ser oändlig 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med alla sina stjär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men vem 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om det  fi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något sto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bland al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  </a:t>
            </a: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det mörka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             </a:t>
            </a:r>
            <a:r>
              <a:rPr b="1" i="1" lang="sv-SE" sz="1800" spc="-1" strike="noStrike">
                <a:solidFill>
                  <a:srgbClr val="009900"/>
                </a:solidFill>
                <a:latin typeface="Arial"/>
              </a:rPr>
              <a:t>Ig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en dik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åter bra när man läser hö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 en rytm och e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åttext kan också vara en d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håller ofta käns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entligen kan en dikt se ut hur som helst, bara den betyder något för den som skrivit 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naden mellan dikt och berätte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 gick ut i natten. Det var mörkt och stjärnorna lyste på himm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99736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2565360"/>
            <a:ext cx="32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 gick ut i na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var mö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 stjärnorna l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å himm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005360"/>
            <a:ext cx="324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 gick 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 i na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var mörk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järnorna de blä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å det djupblå himlaval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Book Antiqua"/>
              </a:rPr>
              <a:t>Orddikt, namndi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2010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Book Antiqua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ängtar till vå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Book Antiqua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nnan sommarens hetta ko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Book Antiqu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är vitsippor slår 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ltid lika underb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Kedjedi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598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r är nyckeln till kungens r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t riket finns en s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i staden finns en g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 den gatan är en gå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på gården står ett h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t huset finns et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i rummet står ett b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å det bordet står en 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i vasen finns det blom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1484280"/>
            <a:ext cx="380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mmor i va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vasen på bord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t i rum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rummet i hu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et på gå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gården vid g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an i st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staden i ri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här är nyckeln till kungens r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a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988640"/>
            <a:ext cx="6913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 kastanj är skön att hålla i han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 kastanj liknar inte riktigt någon annan kastan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 kastanj blir man glad fö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d flera kastanjer känner man sig r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t är med kastanjer som med vä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örel Kristina Näslu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a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58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järn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ångt, långt b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ser stjärn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går 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 räkna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är fler, många f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n någon kan tänka 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ångt, långt b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långt man ka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 jag stjä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de ser n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 ocks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s och Monique Hagen/ Barbro Lindg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48000" y="1341000"/>
            <a:ext cx="324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är uppe i gardin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är hänger apelsin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rillorna med brill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plockar säcken f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aterna, sold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äter upp to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duvorna tar druv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lägger i en kor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grevarna, baron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plockar ner citron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handlarna tar mandl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sen är inget k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nnart Hell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5113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umpar du i kallimallivandr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 det första trollet till det an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ej, men linkelunk har buritörst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 det andra trollet till det för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et var inte underligt minsan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tt de inte alls förstod varan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Hugo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9:50:21Z</dcterms:created>
  <dc:creator>Lina Cesar</dc:creator>
  <dc:description/>
  <dc:language>en-US</dc:language>
  <cp:lastModifiedBy>Lina Cesar</cp:lastModifiedBy>
  <dcterms:modified xsi:type="dcterms:W3CDTF">2012-01-25T10:57:39Z</dcterms:modified>
  <cp:revision>22</cp:revision>
  <dc:subject/>
  <dc:title>Dikt, vers, lyrik, poesi</dc:title>
</cp:coreProperties>
</file>